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EE8-6E20-4CE6-ADA5-92C0E7C0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F70-4847-43B7-9F94-CD68D858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C47-02A7-419B-ADE8-26BACFDB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3B1-6087-411B-8B75-7B1D6533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BA3-9B65-4D1E-937F-5319E8B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7C4-8574-4FC3-9EA2-FE3152BF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1C4-2399-4CE2-BCC0-6D6988E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0E8-F63D-40FA-9151-61690542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EF8-12CE-4574-83D9-7E86FC47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0F0-38CF-49DB-A938-F2326D9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23E-48BF-463D-8D0A-1201E6D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E12-AB1E-4D33-A8F9-CCECC06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EFD8-0B01-432B-B07C-AA41E998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OSMICL.wav" TargetMode="External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BUBBLE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OPTIMIS.wav" TargetMode="External"/><Relationship Id="rId9" Type="http://schemas.openxmlformats.org/officeDocument/2006/relationships/image" Target="../media/image3.png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DEEDLE.wav" TargetMode="External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5.bin"/><Relationship Id="rId14" Type="http://schemas.openxmlformats.org/officeDocument/2006/relationships/hyperlink" Target="file:///tmp/home/.config/libreoffice/4/user/gallery/ZOT.wav" TargetMode="External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OSMICL.wav" TargetMode="External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OPTIMIS.wav" TargetMode="External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DEEDLE.wav" TargetMode="External"/><Relationship Id="rId9" Type="http://schemas.openxmlformats.org/officeDocument/2006/relationships/image" Target="../media/image4.png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ZOT.wav" TargetMode="Externa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OPTIMIS.wav" TargetMode="External"/><Relationship Id="rId7" Type="http://schemas.openxmlformats.org/officeDocument/2006/relationships/image" Target="../media/image3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DEEDLE.wav" TargetMode="External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ZOT.wav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OPTIMIS.wav" TargetMode="External"/><Relationship Id="rId7" Type="http://schemas.openxmlformats.org/officeDocument/2006/relationships/image" Target="../media/image3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DEEDLE.wav" TargetMode="External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ZOT.wav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BUBBLE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OPTIMIS.wav" TargetMode="External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DEEDLE.wav" TargetMode="External"/><Relationship Id="rId13" Type="http://schemas.openxmlformats.org/officeDocument/2006/relationships/image" Target="../media/image4.png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ZOT.wav" TargetMode="Externa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OSMICL.wav" TargetMode="External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DEEDLE.wav" TargetMode="External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ZOT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DEEDLE.wav" TargetMode="External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ZOT.wav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DEEDLE.wav" TargetMode="External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ZOT.wav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OSMICL.wav" TargetMode="Externa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BUBBLE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OPTIMIS.wav" TargetMode="External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DEEDLE.wav" TargetMode="External"/><Relationship Id="rId13" Type="http://schemas.openxmlformats.org/officeDocument/2006/relationships/image" Target="../media/image4.png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ZOT.wav" TargetMode="Externa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DEEDLE.wav" TargetMode="External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ZOT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DEEDLE.wav" TargetMode="External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ZOT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DEEDLE.wav" TargetMode="External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ZOT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ZOT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ZOT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ZOT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ZOT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80880" y="4267080"/>
          <a:ext cx="206532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267080"/>
                    <a:ext cx="2065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" name="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" name="" descr=""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" name="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7162920" y="48006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9528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8448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Five little fishies swimming in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5334120" y="29718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9718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114800" y="27432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7432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600200" y="2666880"/>
          <a:ext cx="3724200" cy="31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666880"/>
                    <a:ext cx="372420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1143000" y="1077840"/>
          <a:ext cx="5638680" cy="470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77840"/>
                    <a:ext cx="56386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splash" descr=""/>
          <p:cNvPicPr/>
          <p:nvPr/>
        </p:nvPicPr>
        <p:blipFill>
          <a:blip r:embed="rId2"/>
          <a:stretch/>
        </p:blipFill>
        <p:spPr>
          <a:xfrm>
            <a:off x="1066680" y="76320"/>
            <a:ext cx="72392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" name="" descr=""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162920" y="48006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Four little fishies swimming in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0456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easing Mr. Shark.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828800" y="1523880"/>
          <a:ext cx="2135160" cy="236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1523880"/>
                    <a:ext cx="2135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5105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848720" y="49528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828800" y="1523880"/>
          <a:ext cx="2135160" cy="236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1523880"/>
                    <a:ext cx="2135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0880" y="4267080"/>
          <a:ext cx="2065320" cy="23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2065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7" name="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easing Mr. Shark.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8610480" y="3429000"/>
          <a:ext cx="53352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3429000"/>
                    <a:ext cx="5335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Along comes Mr. Shark as quiet as can be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8105760" y="3429000"/>
          <a:ext cx="10382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5760" y="3429000"/>
                    <a:ext cx="1038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7115040" y="3228840"/>
          <a:ext cx="20289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5040" y="3228840"/>
                    <a:ext cx="20289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6084720" y="3276720"/>
          <a:ext cx="30592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276720"/>
                    <a:ext cx="30592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5334120" y="29718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9718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4114800" y="27432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7432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600200" y="2666880"/>
          <a:ext cx="3724200" cy="31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666880"/>
                    <a:ext cx="372420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1143000" y="1077840"/>
          <a:ext cx="5638680" cy="470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77840"/>
                    <a:ext cx="56386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splash" descr=""/>
          <p:cNvPicPr/>
          <p:nvPr/>
        </p:nvPicPr>
        <p:blipFill>
          <a:blip r:embed="rId2"/>
          <a:stretch/>
        </p:blipFill>
        <p:spPr>
          <a:xfrm>
            <a:off x="1066680" y="76320"/>
            <a:ext cx="72392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09480" y="3657600"/>
          <a:ext cx="2233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6576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505320" y="2057400"/>
          <a:ext cx="19890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0574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172200" y="3886200"/>
          <a:ext cx="214164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3886200"/>
                    <a:ext cx="2141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781680" y="43434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25146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52440" y="42670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hree little fishies swimming in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28800" y="1523880"/>
          <a:ext cx="2135160" cy="236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1523880"/>
                    <a:ext cx="2135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4191120"/>
          <a:ext cx="2001960" cy="22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191120"/>
                    <a:ext cx="2001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019920" y="342900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easing Mr. Shark.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5257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3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8610480" y="3429000"/>
          <a:ext cx="53352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3429000"/>
                    <a:ext cx="5335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Along comes Mr. Shark as quiet as can be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105760" y="3429000"/>
          <a:ext cx="10382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5760" y="3429000"/>
                    <a:ext cx="1038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7115040" y="3228840"/>
          <a:ext cx="20289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5040" y="3228840"/>
                    <a:ext cx="20289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6084720" y="3276720"/>
          <a:ext cx="30592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276720"/>
                    <a:ext cx="30592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5334120" y="29718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9718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114800" y="27432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7432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943600" y="3124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624120" y="4343400"/>
          <a:ext cx="2233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343400"/>
                    <a:ext cx="223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80880" y="4267080"/>
          <a:ext cx="2065320" cy="23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2065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828800" y="2254320"/>
          <a:ext cx="2124000" cy="234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" name="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254320"/>
                    <a:ext cx="2124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1600200" y="2666880"/>
          <a:ext cx="3724200" cy="31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666880"/>
                    <a:ext cx="372420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143000" y="1077840"/>
          <a:ext cx="5638680" cy="470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77840"/>
                    <a:ext cx="56386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splash" descr=""/>
          <p:cNvPicPr/>
          <p:nvPr/>
        </p:nvPicPr>
        <p:blipFill>
          <a:blip r:embed="rId2"/>
          <a:stretch/>
        </p:blipFill>
        <p:spPr>
          <a:xfrm>
            <a:off x="1066680" y="76320"/>
            <a:ext cx="72392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447920" y="3733920"/>
          <a:ext cx="198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73392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172200" y="3886200"/>
          <a:ext cx="214164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886200"/>
                    <a:ext cx="2141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629400" y="43434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4191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wo little fishies swimming in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Teasing Mr. Shark.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24480" y="2590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5029200" y="2286000"/>
          <a:ext cx="1989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286000"/>
                    <a:ext cx="198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705720" y="4343400"/>
          <a:ext cx="214128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05720" y="43434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8610480" y="3429000"/>
          <a:ext cx="53352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3429000"/>
                    <a:ext cx="5335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Along comes Mr. Shark as quiet as can be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8105760" y="3429000"/>
          <a:ext cx="10382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5760" y="3429000"/>
                    <a:ext cx="1038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0" y="4343400"/>
          <a:ext cx="190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43400"/>
                    <a:ext cx="190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1480" y="1752480"/>
          <a:ext cx="20480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75248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828800" y="1523880"/>
          <a:ext cx="2135160" cy="236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1523880"/>
                    <a:ext cx="2135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54480" y="3733920"/>
          <a:ext cx="22320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4480" y="3733920"/>
                    <a:ext cx="223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880" y="4191120"/>
          <a:ext cx="2001960" cy="22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191120"/>
                    <a:ext cx="2001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44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No, you can’t catch 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7115040" y="3228840"/>
          <a:ext cx="20289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5040" y="3228840"/>
                    <a:ext cx="20289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6084720" y="3276720"/>
          <a:ext cx="30592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276720"/>
                    <a:ext cx="30592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5334120" y="29718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9718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4114800" y="2743200"/>
          <a:ext cx="372420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743200"/>
                    <a:ext cx="37242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1600200" y="2666880"/>
          <a:ext cx="3724200" cy="31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666880"/>
                    <a:ext cx="372420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1143000" y="1077840"/>
          <a:ext cx="5638680" cy="470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77840"/>
                    <a:ext cx="56386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splash" descr=""/>
          <p:cNvPicPr/>
          <p:nvPr/>
        </p:nvPicPr>
        <p:blipFill>
          <a:blip r:embed="rId2"/>
          <a:stretch/>
        </p:blipFill>
        <p:spPr>
          <a:xfrm>
            <a:off x="1066680" y="76320"/>
            <a:ext cx="72392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276720" y="3505320"/>
          <a:ext cx="2141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50532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733920" y="39625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4191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One little fishy swimming in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52280" y="3809880"/>
          <a:ext cx="2141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9880"/>
                    <a:ext cx="2141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981080" y="4191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Swimming away from Mr. Shark as quiet as can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133720" y="3809880"/>
          <a:ext cx="2141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988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610480" y="3429000"/>
          <a:ext cx="53352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3429000"/>
                    <a:ext cx="5335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52280" y="228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cTeacher"/>
              </a:rPr>
              <a:t>Along comes Mr. Shark as quiet as can be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3352680" y="3809880"/>
          <a:ext cx="2141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809880"/>
                    <a:ext cx="2141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981080" y="4191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6477120" y="3657600"/>
          <a:ext cx="2141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657600"/>
                    <a:ext cx="2141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981080" y="4191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2743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8105760" y="3429000"/>
          <a:ext cx="10382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5760" y="3429000"/>
                    <a:ext cx="1038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7115040" y="3228840"/>
          <a:ext cx="20289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5040" y="3228840"/>
                    <a:ext cx="20289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839080" y="4800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084720" y="3276720"/>
          <a:ext cx="30592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276720"/>
                    <a:ext cx="30592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21:00:11Z</dcterms:created>
  <dc:creator>Carol Shockley</dc:creator>
  <dc:description/>
  <dc:language>en-US</dc:language>
  <cp:lastModifiedBy>Carol Shockley</cp:lastModifiedBy>
  <dcterms:modified xsi:type="dcterms:W3CDTF">2003-05-20T16:40:47Z</dcterms:modified>
  <cp:revision>5</cp:revision>
  <dc:subject/>
  <dc:title>PowerPoint Presentation</dc:title>
</cp:coreProperties>
</file>